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3967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1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4960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843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587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2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77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14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Hacker jeopardy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	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2082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irra @ esc2k07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if - vecna - ascii - zen - maye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24 latte di birra da 500m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s’ha lo stack dopo una chiamata a funzione 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90360" y="3314520"/>
            <a:ext cx="8178840" cy="416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9000"/>
          </a:bodyPr>
          <a:p>
            <a:pPr marL="691200" indent="-4395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turn poin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1200" indent="-4395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 pointer, parametri, variabili local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1200" indent="-4395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turn pointer, frame pointer, parametr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1200" indent="-4395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rametri, return pointer, frame poin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3175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hi ha fatto l’unico deface a securityfocus 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90360" y="3403080"/>
            <a:ext cx="8178840" cy="3225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dewind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l gruppo TES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yhem (sobrio!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luffy bunn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Porta dei klogin ?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	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1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6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43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stato ormai dismess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219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half width unicode encoding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%uFF2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--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%2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%252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%u002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con/c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il deCSS com’e’ stato pubblicato 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un numero prim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a VeriSig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mite rumore di fondo di un mp3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eganografato in HTM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antato da Richard Stallma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pinto su una pergamen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qual’e’ la lunghezza di una NUA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rbitrari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ssegnata dal serv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+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 che numero di BFi siamo arrivati 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Fi e’ morta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La password di default di DBSNMP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ig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BCDEFGHILMNOPQRSTUVZ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bsnm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cot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ANGE_ON_INST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s’e’ il Birthday Attack 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 attacco a persone.linux.i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a torta di compleanno avvelenata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 paradosso statisti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a tipologia di DD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’attacco ai Root Serv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La GRANT per usare “into outfile”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tfi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le_priv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le_o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Regol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78840" cy="5295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0000"/>
          </a:bodyPr>
          <a:p>
            <a:pPr marL="628560" indent="-399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squadre con beep di prenotazione rispost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28560" indent="-399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omande a risposta multipla (il 90% hanno una sola risposta valida, alcune più d’una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28560" indent="-399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i indovina la risposta giusta beve 1 bicchiere di birra alla gocci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28560" indent="-399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e squadre hanno un puntegg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28560" indent="-399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e decisioni sui giudizi di chi ha risposto prima o giusto/sbagliato sono inappellabil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02680" y="203040"/>
            <a:ext cx="988092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s’e’ il net.inet.tcp.blackhole 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o stealth sca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 insulto di EFN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a sysctl di freebs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a tecnica anti DD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’estensione di ipt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a sysctl di Linu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09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Lunghezza del TCP.SEQ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7 (strlen(“TCP.SEQ”) ?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pende dai syn cook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at /etc”, su solaris, cosa fa 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s /et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n /etc/et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at /etc/*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at /etc/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valid argumen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STUN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ypassa il n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ick di Raoul Chies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dalita’ d’uso di openvp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ick di Richard Stallma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lias di stunn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rotocollo di http tunnell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qual’e’ l’ultima release di netbsd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4.0-rc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007 Enterpris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Porta di BGP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n esist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79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9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pende dall’implementazione (problemi di interoperabilita’ tra Cisco e Juniper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quella posterio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la libresolv implementa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a libreria per risolvere i problem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a libreria grafic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a libreria di risoluzione D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a libreria di risoluzione IPv6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a libreria di risoluzione della GNU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L’ultimo DDoS ai Root Server </a:t>
            </a:r>
            <a:br>
              <a:rPr sz="6400"/>
            </a:br>
            <a:br>
              <a:rPr sz="6400"/>
            </a:br>
            <a:br>
              <a:rPr sz="6400"/>
            </a:br>
            <a:br>
              <a:rPr sz="6400"/>
            </a:br>
            <a:br>
              <a:rPr sz="6400"/>
            </a:br>
            <a:br>
              <a:rPr sz="6400"/>
            </a:br>
            <a:br>
              <a:rPr sz="6400"/>
            </a:br>
            <a:br>
              <a:rPr sz="6400"/>
            </a:b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 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 mese f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e mesi f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i mesi f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 anno f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quattro anni f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eci anni f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73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Il DNS pinning/rebinding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un attacco alle libresolv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un attacco di dns poison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un metodo di load balan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un attacco client sid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’ha inventato kaminsk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07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Numero di edizione hackmeeting 2007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’hackmeeting e’ finito nel 200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0x0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me funziona naptha 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un synflood asyncron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un synflood syncron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un attacco UDP a moltiplicazione (stile smurf, ma diverso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frutta la frammentazion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a una full connec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apitan Crunch 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7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6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048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C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Steve Job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xav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rackava passwor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uotav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iocava a gol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ra un ero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PDP-11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a funzionare Intern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a sistema operativo MV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a sistema operativo V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i gira Linu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i gira Uni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i gira Multic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Solaris non e’ disponibile su: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x86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lph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par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p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 ris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LEX ALEX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’inventore del -j DRO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-l -f user (su solari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fiaBo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’e’ stato 10 anni f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n e’ uno UNI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Non e’ uno UNIX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RI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PS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NI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P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INI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ARWI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s’e’ IPX 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 modello di workstation SU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l protocollo BOOT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l protocollo nativo di VMS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l nick di Com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a tecnica 3D F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 modello di firewall Cis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Il ponte sul logo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7000"/>
          </a:bodyPr>
          <a:p>
            <a:pPr marL="6771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77160" indent="-4305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U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77160" indent="-4305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IS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77160" indent="-4305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RI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77160" indent="-4305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P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77160" indent="-4305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PARC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me si fa una richiesta a identd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ORTA LOCALE:PORTA REMOT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ERNAME:PORTA LOCA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 un brows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 gentilezz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 di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numero syscall execv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n ha numeri, si chiama “execve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0x0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-1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zeof(char) *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sa fa holyshit.c ?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	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una race condition sul filesyste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un exploit per solaris 1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un rootkit per process hid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un trojan per forgiare le chiavi di sessione ssh prestabilit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Non serve pagine web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	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pach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asthttp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ighttp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ttp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bys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4191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L’header HTTP per fare una richiesta a un proxy in chain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90360" y="378468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OSTPROX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xt-Host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st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x-Forward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hi ha scritto su phrack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ff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grakkyu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wiz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me funziona TOR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gitando una bandoliera ross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outing a cipoll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stradamento per cipol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rward multiplo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stradamento per lamponi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er magia ner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strace per solari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ktra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tra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us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ra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tra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3111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me si attiva un’interfaccia su cisco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90360" y="3377880"/>
            <a:ext cx="8178840" cy="3251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fu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terface u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nab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 shutdow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L’op code di “int 3” su x86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0xC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0xD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0x9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0x69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0x666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Quale non e’ un OS CISCO 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at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ix i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inu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ki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sa vorreste sovrascrivere 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%AI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%SYSYEM RO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%R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%P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%CO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%GC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E’ una SQL injection valida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‘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ion show tables; ‘--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‘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ion select name,passw,null,null ‘--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‘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ion(select(*)) ‘--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‘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ner join select name,passw,null ‘--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‘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&amp;&amp; select passwd != NU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336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Gill Sans"/>
              </a:rPr>
              <a:t>qual’e’ la legge italiana sul cybercrime ?</a:t>
            </a:r>
            <a:endParaRPr b="0" lang="en-US" sz="6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90360" y="3492000"/>
            <a:ext cx="8178840" cy="3149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a 615/99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’articolato Tang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a 547/93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a 615 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La tipologia di kazaa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ll p2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rver centrali fiss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rver centrali elett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uperclien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sh networ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sa significa EIGRP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terior Internal Generic Routing Protoco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tra Internet Gre Routing Protoco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ternal Interface Groaning Route Publicall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nhanced Interior Gateway Routing Protocol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esiste il “one bit overflow” 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, ma con altri nom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un HOA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un modo sbagliato per dire “one byte overflow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, ci hanno bucato sendmai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NX bi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uid e sgi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 dum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uss fi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icky fi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 execut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 kill proces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anary patch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sh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pach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hpmyadmi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hpB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c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n3td3v, e’: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persone, secondo un’analisi semantic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a mailing lis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 newsgrou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a syscall di knar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b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drwxr-x--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7000"/>
          </a:bodyPr>
          <a:p>
            <a:pPr marL="6771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77160" indent="-4305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75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77160" indent="-4305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0155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77160" indent="-4305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0175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77160" indent="-4305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0475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77160" indent="-4305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0075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Google TiSP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un servizio di ricerca per le aziend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un wa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un hoax di Goog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un servizio di Technological interface Search Protoco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Debian etch ha tolto: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id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kill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grp (si usa solo chown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grp (si usa solo chuid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stre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slo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nmap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un progetto nato nel 20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mplementa una tecnica di Antirez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scritto da Naga &amp; Al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inka le libpca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inka le libn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ultima versione di NFS 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Il nick di kevin mitnick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bod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i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his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c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d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fiabo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07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quale software fa steganalisi 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egoelectr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egocrac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egdetec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eguncov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egor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egotellmetell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tcpdump -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come tcpdump -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clude le “extended information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stra le excessive collis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onimizza il dum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clude l’header ethern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n e’ piu’ implementa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ps aux funziona su: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inu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lar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PS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UR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an9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Silvio Cesar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crisse su come patchare i kernel in /dev/me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crisse come modificare una funzione non sysc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crisse il patching statico di vmlinu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crisse il patching dinamico di ini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sse “alea iacta est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Il bridge etherne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a proxy ar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rla IEEE 802.1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rla IEEE 802.1q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’ stato inventato da Linu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n e’ supportato da iptables (*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L’editor “giusto”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mac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v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Questo quiz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zz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quale’ il codice di un NOP 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0x4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0x9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0xF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0x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295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me si chiama il file di passwd di VMS 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90360" y="3555720"/>
            <a:ext cx="8178840" cy="307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ssw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suaf.d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ster.secr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$QSECOFR.D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KHS9NE 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dename processori sparc x86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l primo gruppo di defacer (anni 80!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ssword di shimomur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ccesso di numero verde per compuserv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