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applause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9B5-7C5A-4AAF-9CBC-0E344A2E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C30-C847-498E-A9BD-F2F0AE3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42B-1ADF-46B9-9454-9D5DD284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6EB-CE0A-47E9-AF33-8FF9C86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E3E-68F0-4B9B-96EB-E5E3446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DEC-D51F-48BF-9A4D-0E7FD13B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9E9-74CF-4767-AB2C-36E92D9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1AB-788E-446B-9AA8-3440014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A76-7DB8-4B95-8F2C-BC1D24C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559-6FAD-4025-8258-D7D38ED7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09C-6DDE-4302-BAD0-BD8A3CCF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223-C6FF-4989-8BBA-099FE932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9920" y="7221600"/>
            <a:ext cx="9752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Giuseppe  Marocchio 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                                            pag. </a:t>
            </a:r>
            <a:fld id="{D7F5AC6F-83B1-413E-915C-05230816795A}" type="slidenum"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080720" cy="7191360"/>
            <a:chOff x="0" y="0"/>
            <a:chExt cx="10080720" cy="71913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316080" cy="533520"/>
            </a:xfrm>
            <a:custGeom>
              <a:avLst/>
              <a:gdLst>
                <a:gd name="textAreaLeft" fmla="*/ 360 w 316080"/>
                <a:gd name="textAreaRight" fmla="*/ 315720 w 31608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36442">
                  <a:moveTo>
                    <a:pt x="109" y="0"/>
                  </a:moveTo>
                  <a:arcTo wR="109" hR="109" stAng="16200000" swAng="-5400000"/>
                  <a:lnTo>
                    <a:pt x="0" y="36333"/>
                  </a:lnTo>
                  <a:arcTo wR="109" hR="109" stAng="10800000" swAng="-5400000"/>
                  <a:lnTo>
                    <a:pt x="21491" y="36442"/>
                  </a:lnTo>
                  <a:arcTo wR="109" hR="109" stAng="5400000" swAng="-5400000"/>
                  <a:lnTo>
                    <a:pt x="21600" y="109"/>
                  </a:lnTo>
                  <a:arcTo wR="109" hR="109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5760" y="135000"/>
              <a:ext cx="9624960" cy="274680"/>
            </a:xfrm>
            <a:prstGeom prst="roundRect">
              <a:avLst>
                <a:gd name="adj" fmla="val 5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0720" y="135000"/>
              <a:ext cx="152640" cy="141120"/>
            </a:xfrm>
            <a:prstGeom prst="roundRect">
              <a:avLst>
                <a:gd name="adj" fmla="val 1134"/>
              </a:avLst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3360" y="0"/>
              <a:ext cx="153720" cy="138240"/>
            </a:xfrm>
            <a:prstGeom prst="roundRect">
              <a:avLst>
                <a:gd name="adj" fmla="val 1162"/>
              </a:avLst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3360" y="135000"/>
              <a:ext cx="153720" cy="141120"/>
            </a:xfrm>
            <a:prstGeom prst="roundRect">
              <a:avLst>
                <a:gd name="adj" fmla="val 1134"/>
              </a:avLst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3120" y="274680"/>
              <a:ext cx="150840" cy="138240"/>
            </a:xfrm>
            <a:prstGeom prst="roundRect">
              <a:avLst>
                <a:gd name="adj" fmla="val 1162"/>
              </a:avLst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4360" y="136440"/>
              <a:ext cx="155520" cy="138240"/>
            </a:xfrm>
            <a:prstGeom prst="roundRect">
              <a:avLst>
                <a:gd name="adj" fmla="val 1162"/>
              </a:avLst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0720" y="271440"/>
              <a:ext cx="152640" cy="138240"/>
            </a:xfrm>
            <a:prstGeom prst="roundRect">
              <a:avLst>
                <a:gd name="adj" fmla="val 1162"/>
              </a:avLst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3120" y="409680"/>
              <a:ext cx="150840" cy="136440"/>
            </a:xfrm>
            <a:prstGeom prst="roundRect">
              <a:avLst>
                <a:gd name="adj" fmla="val 1162"/>
              </a:avLst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0" y="7153200"/>
              <a:ext cx="10080720" cy="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 Mon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837720" indent="-278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1256400" indent="-2091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1675440" indent="-209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094120" indent="-2091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094120" indent="-2091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094120" indent="-2091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15466-6DA0-482E-9DE6-7D556FE957A0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iceofoscarini.it/studenti/crittografia/" TargetMode="External"/><Relationship Id="rId2" Type="http://schemas.openxmlformats.org/officeDocument/2006/relationships/hyperlink" Target="http://frode.home.cern.ch/frode/crypto/Turing/" TargetMode="External"/><Relationship Id="rId3" Type="http://schemas.openxmlformats.org/officeDocument/2006/relationships/hyperlink" Target="http://www.pixem.it/pixshoah/personaggi/mussolini.htm" TargetMode="External"/><Relationship Id="rId4" Type="http://schemas.openxmlformats.org/officeDocument/2006/relationships/hyperlink" Target="http://lgxserver.uniba.it/lei/rassegna/nietzsch.htm" TargetMode="External"/><Relationship Id="rId5" Type="http://schemas.openxmlformats.org/officeDocument/2006/relationships/hyperlink" Target="http://www.collezioni-f.it/museo/museo.html" TargetMode="External"/><Relationship Id="rId6" Type="http://schemas.openxmlformats.org/officeDocument/2006/relationships/hyperlink" Target="http://www.pixem.it/pixshoah/argomenti/guerra.htm" TargetMode="External"/><Relationship Id="rId7" Type="http://schemas.openxmlformats.org/officeDocument/2006/relationships/hyperlink" Target="http://www.storiain.net/arret/num38/index.html" TargetMode="External"/><Relationship Id="rId8" Type="http://schemas.openxmlformats.org/officeDocument/2006/relationships/hyperlink" Target="http://it.wikipedia.org/wiki/Leggi_razziali_fasciste" TargetMode="External"/><Relationship Id="rId9" Type="http://schemas.openxmlformats.org/officeDocument/2006/relationships/hyperlink" Target="http://it.wikipedia.org/wiki/Seconda_guerra_mondiale" TargetMode="External"/><Relationship Id="rId10" Type="http://schemas.openxmlformats.org/officeDocument/2006/relationships/hyperlink" Target="http://it.wikipedia.org/wiki/Trattato_di_Versailles" TargetMode="External"/><Relationship Id="rId11" Type="http://schemas.openxmlformats.org/officeDocument/2006/relationships/hyperlink" Target="http://it.wikipedia.org/wiki/Fascismo" TargetMode="External"/><Relationship Id="rId12" Type="http://schemas.openxmlformats.org/officeDocument/2006/relationships/hyperlink" Target="http://it.wikipedia.org/wiki/Alan_Turing" TargetMode="External"/><Relationship Id="rId13" Type="http://schemas.openxmlformats.org/officeDocument/2006/relationships/hyperlink" Target="http://it.wikipedia.org/wiki/Enigma_crittografia" TargetMode="External"/><Relationship Id="rId14" Type="http://schemas.openxmlformats.org/officeDocument/2006/relationships/hyperlink" Target="http://it.wikipedia.org/wiki/Repubblica_di_Weimar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3863880" cy="7559640"/>
            </a:xfrm>
            <a:custGeom>
              <a:avLst/>
              <a:gdLst>
                <a:gd name="textAreaLeft" fmla="*/ 360 w 3863880"/>
                <a:gd name="textAreaRight" fmla="*/ 3863520 w 3863880"/>
                <a:gd name="textAreaTop" fmla="*/ 360 h 7559640"/>
                <a:gd name="textAreaBottom" fmla="*/ 7559280 h 7559640"/>
              </a:gdLst>
              <a:ahLst/>
              <a:rect l="textAreaLeft" t="textAreaTop" r="textAreaRight" b="textAreaBottom"/>
              <a:pathLst>
                <a:path w="21600" h="42258">
                  <a:moveTo>
                    <a:pt x="8" y="0"/>
                  </a:moveTo>
                  <a:arcTo wR="8" hR="8" stAng="16200000" swAng="-5400000"/>
                  <a:lnTo>
                    <a:pt x="0" y="42250"/>
                  </a:lnTo>
                  <a:arcTo wR="8" hR="8" stAng="10800000" swAng="-5400000"/>
                  <a:lnTo>
                    <a:pt x="21592" y="42258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90720" y="1863720"/>
              <a:ext cx="8188200" cy="2793960"/>
            </a:xfrm>
            <a:prstGeom prst="roundRect">
              <a:avLst>
                <a:gd name="adj" fmla="val 56"/>
              </a:avLst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1174680"/>
              <a:ext cx="3160800" cy="3481560"/>
              <a:chOff x="0" y="1174680"/>
              <a:chExt cx="3160800" cy="3481560"/>
            </a:xfrm>
          </p:grpSpPr>
          <p:sp>
            <p:nvSpPr>
              <p:cNvPr id="95" name=""/>
              <p:cNvSpPr/>
              <p:nvPr/>
            </p:nvSpPr>
            <p:spPr>
              <a:xfrm>
                <a:off x="631800" y="3949560"/>
                <a:ext cx="635040" cy="706680"/>
              </a:xfrm>
              <a:custGeom>
                <a:avLst/>
                <a:gdLst>
                  <a:gd name="textAreaLeft" fmla="*/ 360 w 635040"/>
                  <a:gd name="textAreaRight" fmla="*/ 634680 w 635040"/>
                  <a:gd name="textAreaTop" fmla="*/ 360 h 706680"/>
                  <a:gd name="textAreaBottom" fmla="*/ 706320 h 706680"/>
                </a:gdLst>
                <a:ahLst/>
                <a:rect l="textAreaLeft" t="textAreaTop" r="textAreaRight" b="textAreaBottom"/>
                <a:pathLst>
                  <a:path w="21600" h="24035">
                    <a:moveTo>
                      <a:pt x="54" y="0"/>
                    </a:moveTo>
                    <a:arcTo wR="54" hR="54" stAng="16200000" swAng="-5400000"/>
                    <a:lnTo>
                      <a:pt x="0" y="23981"/>
                    </a:lnTo>
                    <a:arcTo wR="54" hR="54" stAng="10800000" swAng="-5400000"/>
                    <a:lnTo>
                      <a:pt x="21546" y="24035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90720" y="1863720"/>
                <a:ext cx="633240" cy="709560"/>
              </a:xfrm>
              <a:custGeom>
                <a:avLst/>
                <a:gdLst>
                  <a:gd name="textAreaLeft" fmla="*/ 360 w 633240"/>
                  <a:gd name="textAreaRight" fmla="*/ 632880 w 633240"/>
                  <a:gd name="textAreaTop" fmla="*/ 360 h 709560"/>
                  <a:gd name="textAreaBottom" fmla="*/ 709200 h 709560"/>
                </a:gdLst>
                <a:ahLst/>
                <a:rect l="textAreaLeft" t="textAreaTop" r="textAreaRight" b="textAreaBottom"/>
                <a:pathLst>
                  <a:path w="21600" h="24202">
                    <a:moveTo>
                      <a:pt x="54" y="0"/>
                    </a:moveTo>
                    <a:arcTo wR="54" hR="54" stAng="16200000" swAng="-5400000"/>
                    <a:lnTo>
                      <a:pt x="0" y="24148"/>
                    </a:lnTo>
                    <a:arcTo wR="54" hR="54" stAng="10800000" swAng="-5400000"/>
                    <a:lnTo>
                      <a:pt x="21546" y="24202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14600" y="1174680"/>
                <a:ext cx="646200" cy="700200"/>
              </a:xfrm>
              <a:custGeom>
                <a:avLst/>
                <a:gdLst>
                  <a:gd name="textAreaLeft" fmla="*/ 360 w 646200"/>
                  <a:gd name="textAreaRight" fmla="*/ 645840 w 646200"/>
                  <a:gd name="textAreaTop" fmla="*/ 360 h 700200"/>
                  <a:gd name="textAreaBottom" fmla="*/ 699840 h 700200"/>
                </a:gdLst>
                <a:ahLst/>
                <a:rect l="textAreaLeft" t="textAreaTop" r="textAreaRight" b="textAreaBottom"/>
                <a:pathLst>
                  <a:path w="21600" h="23404">
                    <a:moveTo>
                      <a:pt x="53" y="0"/>
                    </a:moveTo>
                    <a:arcTo wR="53" hR="53" stAng="16200000" swAng="-5400000"/>
                    <a:lnTo>
                      <a:pt x="0" y="23351"/>
                    </a:lnTo>
                    <a:arcTo wR="53" hR="53" stAng="10800000" swAng="-5400000"/>
                    <a:lnTo>
                      <a:pt x="21547" y="23404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58920" y="3949560"/>
                <a:ext cx="644400" cy="706680"/>
              </a:xfrm>
              <a:custGeom>
                <a:avLst/>
                <a:gdLst>
                  <a:gd name="textAreaLeft" fmla="*/ 360 w 644400"/>
                  <a:gd name="textAreaRight" fmla="*/ 644040 w 644400"/>
                  <a:gd name="textAreaTop" fmla="*/ 360 h 706680"/>
                  <a:gd name="textAreaBottom" fmla="*/ 706320 h 706680"/>
                </a:gdLst>
                <a:ahLst/>
                <a:rect l="textAreaLeft" t="textAreaTop" r="textAreaRight" b="textAreaBottom"/>
                <a:pathLst>
                  <a:path w="21600" h="23686">
                    <a:moveTo>
                      <a:pt x="53" y="0"/>
                    </a:moveTo>
                    <a:arcTo wR="53" hR="53" stAng="16200000" swAng="-5400000"/>
                    <a:lnTo>
                      <a:pt x="0" y="23633"/>
                    </a:lnTo>
                    <a:arcTo wR="53" hR="53" stAng="10800000" swAng="-5400000"/>
                    <a:lnTo>
                      <a:pt x="21547" y="23686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14600" y="1863720"/>
                <a:ext cx="646200" cy="709560"/>
              </a:xfrm>
              <a:custGeom>
                <a:avLst/>
                <a:gdLst>
                  <a:gd name="textAreaLeft" fmla="*/ 360 w 646200"/>
                  <a:gd name="textAreaRight" fmla="*/ 645840 w 646200"/>
                  <a:gd name="textAreaTop" fmla="*/ 360 h 709560"/>
                  <a:gd name="textAreaBottom" fmla="*/ 709200 h 709560"/>
                </a:gdLst>
                <a:ahLst/>
                <a:rect l="textAreaLeft" t="textAreaTop" r="textAreaRight" b="textAreaBottom"/>
                <a:pathLst>
                  <a:path w="21600" h="23717">
                    <a:moveTo>
                      <a:pt x="53" y="0"/>
                    </a:moveTo>
                    <a:arcTo wR="53" hR="53" stAng="16200000" swAng="-5400000"/>
                    <a:lnTo>
                      <a:pt x="0" y="23664"/>
                    </a:lnTo>
                    <a:arcTo wR="53" hR="53" stAng="10800000" swAng="-5400000"/>
                    <a:lnTo>
                      <a:pt x="21547" y="23717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58920" y="2562120"/>
                <a:ext cx="644400" cy="698760"/>
              </a:xfrm>
              <a:custGeom>
                <a:avLst/>
                <a:gdLst>
                  <a:gd name="textAreaLeft" fmla="*/ 360 w 644400"/>
                  <a:gd name="textAreaRight" fmla="*/ 644040 w 644400"/>
                  <a:gd name="textAreaTop" fmla="*/ 360 h 698760"/>
                  <a:gd name="textAreaBottom" fmla="*/ 698400 h 698760"/>
                </a:gdLst>
                <a:ahLst/>
                <a:rect l="textAreaLeft" t="textAreaTop" r="textAreaRight" b="textAreaBottom"/>
                <a:pathLst>
                  <a:path w="21600" h="23421">
                    <a:moveTo>
                      <a:pt x="53" y="0"/>
                    </a:moveTo>
                    <a:arcTo wR="53" hR="53" stAng="16200000" swAng="-5400000"/>
                    <a:lnTo>
                      <a:pt x="0" y="23368"/>
                    </a:lnTo>
                    <a:arcTo wR="53" hR="53" stAng="10800000" swAng="-5400000"/>
                    <a:lnTo>
                      <a:pt x="21547" y="23421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2562120"/>
                <a:ext cx="642960" cy="698760"/>
              </a:xfrm>
              <a:custGeom>
                <a:avLst/>
                <a:gdLst>
                  <a:gd name="textAreaLeft" fmla="*/ 360 w 642960"/>
                  <a:gd name="textAreaRight" fmla="*/ 642600 w 642960"/>
                  <a:gd name="textAreaTop" fmla="*/ 360 h 698760"/>
                  <a:gd name="textAreaBottom" fmla="*/ 698400 h 698760"/>
                </a:gdLst>
                <a:ahLst/>
                <a:rect l="textAreaLeft" t="textAreaTop" r="textAreaRight" b="textAreaBottom"/>
                <a:pathLst>
                  <a:path w="21600" h="23474">
                    <a:moveTo>
                      <a:pt x="53" y="0"/>
                    </a:moveTo>
                    <a:arcTo wR="53" hR="53" stAng="16200000" swAng="-5400000"/>
                    <a:lnTo>
                      <a:pt x="0" y="23421"/>
                    </a:lnTo>
                    <a:arcTo wR="53" hR="53" stAng="10800000" swAng="-5400000"/>
                    <a:lnTo>
                      <a:pt x="21547" y="23474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90720" y="2562120"/>
                <a:ext cx="633240" cy="698760"/>
              </a:xfrm>
              <a:custGeom>
                <a:avLst/>
                <a:gdLst>
                  <a:gd name="textAreaLeft" fmla="*/ 360 w 633240"/>
                  <a:gd name="textAreaRight" fmla="*/ 632880 w 633240"/>
                  <a:gd name="textAreaTop" fmla="*/ 360 h 698760"/>
                  <a:gd name="textAreaBottom" fmla="*/ 698400 h 698760"/>
                </a:gdLst>
                <a:ahLst/>
                <a:rect l="textAreaLeft" t="textAreaTop" r="textAreaRight" b="textAreaBottom"/>
                <a:pathLst>
                  <a:path w="21600" h="23834">
                    <a:moveTo>
                      <a:pt x="54" y="0"/>
                    </a:moveTo>
                    <a:arcTo wR="54" hR="54" stAng="16200000" swAng="-5400000"/>
                    <a:lnTo>
                      <a:pt x="0" y="23780"/>
                    </a:lnTo>
                    <a:arcTo wR="54" hR="54" stAng="10800000" swAng="-5400000"/>
                    <a:lnTo>
                      <a:pt x="21546" y="23834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31800" y="3249720"/>
                <a:ext cx="635040" cy="711000"/>
              </a:xfrm>
              <a:custGeom>
                <a:avLst/>
                <a:gdLst>
                  <a:gd name="textAreaLeft" fmla="*/ 360 w 635040"/>
                  <a:gd name="textAreaRight" fmla="*/ 634680 w 635040"/>
                  <a:gd name="textAreaTop" fmla="*/ 360 h 711000"/>
                  <a:gd name="textAreaBottom" fmla="*/ 710640 h 711000"/>
                </a:gdLst>
                <a:ahLst/>
                <a:rect l="textAreaLeft" t="textAreaTop" r="textAreaRight" b="textAreaBottom"/>
                <a:pathLst>
                  <a:path w="21600" h="24182">
                    <a:moveTo>
                      <a:pt x="54" y="0"/>
                    </a:moveTo>
                    <a:arcTo wR="54" hR="54" stAng="16200000" swAng="-5400000"/>
                    <a:lnTo>
                      <a:pt x="0" y="24128"/>
                    </a:lnTo>
                    <a:arcTo wR="54" hR="54" stAng="10800000" swAng="-5400000"/>
                    <a:lnTo>
                      <a:pt x="21546" y="24182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58920" y="3249720"/>
                <a:ext cx="644400" cy="711000"/>
              </a:xfrm>
              <a:custGeom>
                <a:avLst/>
                <a:gdLst>
                  <a:gd name="textAreaLeft" fmla="*/ 360 w 644400"/>
                  <a:gd name="textAreaRight" fmla="*/ 644040 w 644400"/>
                  <a:gd name="textAreaTop" fmla="*/ 360 h 711000"/>
                  <a:gd name="textAreaBottom" fmla="*/ 710640 h 711000"/>
                </a:gdLst>
                <a:ahLst/>
                <a:rect l="textAreaLeft" t="textAreaTop" r="textAreaRight" b="textAreaBottom"/>
                <a:pathLst>
                  <a:path w="21600" h="23831">
                    <a:moveTo>
                      <a:pt x="53" y="0"/>
                    </a:moveTo>
                    <a:arcTo wR="53" hR="53" stAng="16200000" swAng="-5400000"/>
                    <a:lnTo>
                      <a:pt x="0" y="23778"/>
                    </a:lnTo>
                    <a:arcTo wR="53" hR="53" stAng="10800000" swAng="-5400000"/>
                    <a:lnTo>
                      <a:pt x="21547" y="23831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itstream Vera Serif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867120" y="0"/>
              <a:ext cx="6213600" cy="696960"/>
            </a:xfrm>
            <a:prstGeom prst="roundRect">
              <a:avLst>
                <a:gd name="adj" fmla="val 22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67120" y="6862680"/>
              <a:ext cx="6213600" cy="696960"/>
            </a:xfrm>
            <a:prstGeom prst="roundRect">
              <a:avLst>
                <a:gd name="adj" fmla="val 22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itstream Vera Serif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186000" y="2102760"/>
            <a:ext cx="68947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itstream Vera Sans Mono"/>
              </a:rPr>
              <a:t>Analogie e differenze tra fascismo e nazismo tra la prima e la  seconda Guerra Mondiale</a:t>
            </a:r>
            <a:endParaRPr b="0" lang="en-US" sz="3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3257640" y="5032440"/>
            <a:ext cx="45910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Giuseppe Marocchi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algn="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40600" y="4646520"/>
            <a:ext cx="204012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8440" y="657360"/>
            <a:ext cx="984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D'annunzio e l'avanguardismo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0" name=""/>
          <p:cNvSpPr/>
          <p:nvPr/>
        </p:nvSpPr>
        <p:spPr>
          <a:xfrm>
            <a:off x="507960" y="2041560"/>
            <a:ext cx="91108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Giornalista per necessità, scrive poesie fin da giovan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dealizzazione del mondo nella dimensione del mit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Esteta, cura l'aspetto esteriore per attrarre a se lettor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ontenuti politico-ideologici di carattere superomistico derivati  dall'attività artistica delle avanguardie e dalle riviste letterari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9000" y="598320"/>
            <a:ext cx="959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D'annunzio e lo spirito nazionalista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2" name=""/>
          <p:cNvSpPr/>
          <p:nvPr/>
        </p:nvSpPr>
        <p:spPr>
          <a:xfrm>
            <a:off x="906480" y="3106800"/>
            <a:ext cx="6432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3" name=""/>
          <p:cNvSpPr/>
          <p:nvPr/>
        </p:nvSpPr>
        <p:spPr>
          <a:xfrm>
            <a:off x="547560" y="2141640"/>
            <a:ext cx="88916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Nel 1897 tentò l'avventura parlamentare come deputato di estrema destr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Disprezzo per la democrazia e l'eguaglianza delle person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Marcia su Fiume e presa della città nel 1920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Esaltato dal fascismo come padre della patri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onfinato  sul lago di Garda dal regime fascista per la sua eccessiva esuberanza</a:t>
            </a: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84120" y="706320"/>
            <a:ext cx="8294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Rapporto con Nietzsch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5" name=""/>
          <p:cNvSpPr/>
          <p:nvPr/>
        </p:nvSpPr>
        <p:spPr>
          <a:xfrm>
            <a:off x="631800" y="1822320"/>
            <a:ext cx="86882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Entrambi vivono nello stesso periodo tuttavia non hanno contatt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D'Annunzio riprende  il concetto di superuomo di  Nietzsche  travisandone il significato e relegandolo alla sola immagine esteriore non curandosi  del nichilismo e dell'ideologia dell'eterno ritorn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D'Annunzio in perfetto accordo con Nietzsche è antidemocratico e contro l'uguaglianza delle persone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9400" y="627120"/>
            <a:ext cx="969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Radicamento del nazismo nella società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"/>
          <p:cNvSpPr/>
          <p:nvPr/>
        </p:nvSpPr>
        <p:spPr>
          <a:xfrm>
            <a:off x="547560" y="2030400"/>
            <a:ext cx="87822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pplicazione delle leggi razziali a  tutto camp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Spirito di esaltazione nazionalista  dovuto alle precarie situazioni in cui versava la Germania dopo la fine della prima guerra mondial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Visione del nazismo come forza riformatrice e unificatrice di un Germania prima di una guida autorevole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36560" y="666720"/>
            <a:ext cx="8801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Radicamento del fascismo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"/>
          <p:cNvSpPr/>
          <p:nvPr/>
        </p:nvSpPr>
        <p:spPr>
          <a:xfrm>
            <a:off x="566640" y="1603440"/>
            <a:ext cx="87123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pplicazione parziale delle leggi razzial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derenza superficiale alle manifestazioni del regim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desione costretta con la violenza delle camicie nere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nnego immediato del fascismo dopo la caduta di Mussolini, ricomparsa di alcuni personaggi politici fascisti dopo qualche anno tra le file della democrazia cristian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596880"/>
            <a:ext cx="939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Subordinazione del fascismo al nazismo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1" name=""/>
          <p:cNvSpPr/>
          <p:nvPr/>
        </p:nvSpPr>
        <p:spPr>
          <a:xfrm>
            <a:off x="517680" y="2370240"/>
            <a:ext cx="938988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sse Roma-Berlino  nel 1936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Emulazione del nazismo sul piano delle manifestazioni  e della politica razzist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nvasione dell'Eritrea  e dell'Albania furono possibili grazie all'aiuto dell'esercito tedesco, necessario  data l'impreparazione di quello italiano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Patto d'acciaio del 1939, l'Italia si subordinava alla politica militare tedesc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47560"/>
            <a:ext cx="1008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Progresso tecnologico dell'ass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3" name=""/>
          <p:cNvSpPr/>
          <p:nvPr/>
        </p:nvSpPr>
        <p:spPr>
          <a:xfrm>
            <a:off x="6253200" y="3206880"/>
            <a:ext cx="14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4" name=""/>
          <p:cNvSpPr/>
          <p:nvPr/>
        </p:nvSpPr>
        <p:spPr>
          <a:xfrm>
            <a:off x="627120" y="2359080"/>
            <a:ext cx="884232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cerca tecnologica in gran parte tedesc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cerca per nuove armi (sostanzialmente missili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cerca nell'ambito delle tecnologie informatiche (gestione di archivi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cerca nel campo della crittografia da parte della marina Inglese, utilizzo di Enigma nella marina tedesca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5" name=""/>
          <p:cNvSpPr/>
          <p:nvPr/>
        </p:nvSpPr>
        <p:spPr>
          <a:xfrm>
            <a:off x="7537320" y="2529000"/>
            <a:ext cx="302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6" name=""/>
          <p:cNvSpPr/>
          <p:nvPr/>
        </p:nvSpPr>
        <p:spPr>
          <a:xfrm>
            <a:off x="915840" y="1832040"/>
            <a:ext cx="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8920" y="547560"/>
            <a:ext cx="990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La crittografia nelle comunicazioni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8" name=""/>
          <p:cNvSpPr/>
          <p:nvPr/>
        </p:nvSpPr>
        <p:spPr>
          <a:xfrm>
            <a:off x="289080" y="2100240"/>
            <a:ext cx="9499320" cy="35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Fu un'idea della marina nazista quella di criptare le comunicazioni degli ordini alle proprie unità dislocate per mare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Utilizzo della macchina enigma che implementa un algoritmo simmetrico incremental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l'Enigma inventata nel 1918 da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tedesco Arthur Scherbiu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31120" y="4121280"/>
            <a:ext cx="316692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507960"/>
            <a:ext cx="959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La macchina enigma - Funzionamento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1" name=""/>
          <p:cNvSpPr/>
          <p:nvPr/>
        </p:nvSpPr>
        <p:spPr>
          <a:xfrm>
            <a:off x="727200" y="2309760"/>
            <a:ext cx="8901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2" name=""/>
          <p:cNvSpPr/>
          <p:nvPr/>
        </p:nvSpPr>
        <p:spPr>
          <a:xfrm>
            <a:off x="677880" y="2498760"/>
            <a:ext cx="6581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"/>
          <p:cNvSpPr/>
          <p:nvPr/>
        </p:nvSpPr>
        <p:spPr>
          <a:xfrm>
            <a:off x="258840" y="1882800"/>
            <a:ext cx="992664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Enigma è composta da 3 rotori e un rotore riflettore ogni rotore è composto da 26 “campi” ogni lettera ha una corrispondenza univoca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Per una maggiore efficacia il rotore 1 cambia a  ogni lettera codificata, il rotore 2 a ogni 26 e il rotore  3 a ogni 676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rrivati al riflettore si ripercorre lo stesso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meccanismo di prima; il messaggio alla fine  pass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quindi per 5 rotori che  applicano tutti lo stess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meccanismo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l risultato è la lettera criptata.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2880" y="757080"/>
            <a:ext cx="8885160" cy="600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6956280" y="3971880"/>
            <a:ext cx="14875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15040" y="3425760"/>
            <a:ext cx="1296720" cy="9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692160" y="3792600"/>
            <a:ext cx="1336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39960" y="2050920"/>
            <a:ext cx="1557360" cy="9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762200" y="4848120"/>
            <a:ext cx="1554120" cy="12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0" name=""/>
          <p:cNvSpPr/>
          <p:nvPr/>
        </p:nvSpPr>
        <p:spPr>
          <a:xfrm>
            <a:off x="3693960" y="4321080"/>
            <a:ext cx="12351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56080" y="2039760"/>
            <a:ext cx="1204920" cy="12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2" name=""/>
          <p:cNvSpPr/>
          <p:nvPr/>
        </p:nvSpPr>
        <p:spPr>
          <a:xfrm>
            <a:off x="6939000" y="3603600"/>
            <a:ext cx="14335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9800" y="929520"/>
            <a:ext cx="8607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Introduzion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1" name=""/>
          <p:cNvSpPr/>
          <p:nvPr/>
        </p:nvSpPr>
        <p:spPr>
          <a:xfrm>
            <a:off x="1065240" y="4587840"/>
            <a:ext cx="5635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2165400" y="2484360"/>
            <a:ext cx="6522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3" name=""/>
          <p:cNvSpPr/>
          <p:nvPr/>
        </p:nvSpPr>
        <p:spPr>
          <a:xfrm>
            <a:off x="1873080" y="2671920"/>
            <a:ext cx="6948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4" name=""/>
          <p:cNvSpPr/>
          <p:nvPr/>
        </p:nvSpPr>
        <p:spPr>
          <a:xfrm>
            <a:off x="407880" y="2100240"/>
            <a:ext cx="9299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Panoramica sulla situazione internazionale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nalisi delle differenze sociali tra il fascismo e nazism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nalisi del retroterra filosofico dei due regim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Differenze e analogie tra  Nietzsche e D'annunzi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nalisi delle soluzioni adottate in ambito informatico per la sicurezza dei messaggi di guerra del regime nazista (ENIGMA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24000" y="507960"/>
            <a:ext cx="7945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Alan Turing ed enigma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4" name=""/>
          <p:cNvSpPr/>
          <p:nvPr/>
        </p:nvSpPr>
        <p:spPr>
          <a:xfrm>
            <a:off x="706320" y="2050920"/>
            <a:ext cx="91998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Lavorò per gli alleati nella decifrazione dei messaggi tedeschi nella sede di Bletchley Park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Nel 1942 si arrivò a decrittare più di 80000 messaggi cifrati tedeschi al mese.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l suo contributo fu molto importante in quanto gli consentì di applicare  alcuni concetti ideati per famosa “macchina di Turing” come l'automazione della computazione e l'utilizzo di sistematico di algoritm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480" y="457200"/>
            <a:ext cx="10020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Bibliografia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6" name=""/>
          <p:cNvSpPr/>
          <p:nvPr/>
        </p:nvSpPr>
        <p:spPr>
          <a:xfrm>
            <a:off x="1305000" y="1652760"/>
            <a:ext cx="7068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7" name=""/>
          <p:cNvSpPr/>
          <p:nvPr/>
        </p:nvSpPr>
        <p:spPr>
          <a:xfrm>
            <a:off x="608040" y="1324080"/>
            <a:ext cx="91803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Fabio cereda, Victor Reichmann –  Le sfide della storia 3a - Carlo Signorelli editore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Nicola Abbagnano, Giovanni Fornero - Autori di fare filosofia 3 – Paravia 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Guido Baldi, silvia Giusso, Mario Ranzetti, Giuseppe Zaccaria - Dal testo alla storia dalla storia al testo  3/1B - Paravia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Massimo Bontempelli, Ettore Bruni - Storia e coscienza storica - vol 3 – Trevisini editore – Milano 1998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1"/>
              </a:rPr>
              <a:t>http://www.liceofoscarini.it/studenti/crittografia/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2"/>
              </a:rPr>
              <a:t>http://frode.home.cern.ch/frode/crypto/Turing/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3"/>
              </a:rPr>
              <a:t>http://www.pixem.it/pixshoah/personaggi/mussolini.htm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4"/>
              </a:rPr>
              <a:t>http://lgxserver.uniba.it/lei/rassegna/nietzsch.htm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5"/>
              </a:rPr>
              <a:t>http://www.collezioni-f.it/museo/museo.html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6"/>
              </a:rPr>
              <a:t>http://www.pixem.it/pixshoah/argomenti/guerra.htm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7"/>
              </a:rPr>
              <a:t>http://www.storiain.net/arret/num38/index.html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8"/>
              </a:rPr>
              <a:t>http://it.wikipedia.org/wiki/Leggi_razziali_fasciste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9"/>
              </a:rPr>
              <a:t>http://it.wikipedia.org/wiki/Seconda_guerra_mondiale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10"/>
              </a:rPr>
              <a:t>http://it.wikipedia.org/wiki/Trattato_di_Versailles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11"/>
              </a:rPr>
              <a:t>http://it.wikipedia.org/wiki/Fascismo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12"/>
              </a:rPr>
              <a:t>http://it.wikipedia.org/wiki/Alan_Turing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13"/>
              </a:rPr>
              <a:t>http://it.wikipedia.org/wiki/Enigma_crittografia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itstream Vera Sans Mono"/>
              </a:rPr>
              <a:t>- </a:t>
            </a: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ans Mono"/>
                <a:hlinkClick r:id="rId14"/>
              </a:rPr>
              <a:t>http://it.wikipedia.org/wiki/Repubblica_di_Weimar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8" name=""/>
          <p:cNvSpPr/>
          <p:nvPr/>
        </p:nvSpPr>
        <p:spPr>
          <a:xfrm>
            <a:off x="5665680" y="2200320"/>
            <a:ext cx="30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2700000">
            <a:off x="2242800" y="2747520"/>
            <a:ext cx="1643040" cy="277920"/>
          </a:xfrm>
          <a:prstGeom prst="rightArrow">
            <a:avLst>
              <a:gd name="adj1" fmla="val 50000"/>
              <a:gd name="adj2" fmla="val 147798"/>
            </a:avLst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2279520" y="3532320"/>
            <a:ext cx="5207040" cy="100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 Mono"/>
              </a:rPr>
              <a:t>Fascismo e nazism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7" name=""/>
          <p:cNvSpPr/>
          <p:nvPr/>
        </p:nvSpPr>
        <p:spPr>
          <a:xfrm>
            <a:off x="6192720" y="1662120"/>
            <a:ext cx="3624480" cy="557280"/>
          </a:xfrm>
          <a:prstGeom prst="roundRect">
            <a:avLst>
              <a:gd name="adj" fmla="val 282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 Mono"/>
              </a:rPr>
              <a:t>Gabriele d'Annunzio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8" name=""/>
          <p:cNvSpPr/>
          <p:nvPr/>
        </p:nvSpPr>
        <p:spPr>
          <a:xfrm>
            <a:off x="476280" y="1654200"/>
            <a:ext cx="2660760" cy="557280"/>
          </a:xfrm>
          <a:prstGeom prst="roundRect">
            <a:avLst>
              <a:gd name="adj" fmla="val 282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 Mono"/>
              </a:rPr>
              <a:t>Nietzsch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9" name=""/>
          <p:cNvSpPr/>
          <p:nvPr/>
        </p:nvSpPr>
        <p:spPr>
          <a:xfrm>
            <a:off x="3095640" y="6402240"/>
            <a:ext cx="3693960" cy="557280"/>
          </a:xfrm>
          <a:prstGeom prst="roundRect">
            <a:avLst>
              <a:gd name="adj" fmla="val 282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 Mono"/>
              </a:rPr>
              <a:t>Alan Turing - Enigm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"/>
          <p:cNvSpPr/>
          <p:nvPr/>
        </p:nvSpPr>
        <p:spPr>
          <a:xfrm rot="18900000">
            <a:off x="6113160" y="2725200"/>
            <a:ext cx="1584360" cy="360720"/>
          </a:xfrm>
          <a:prstGeom prst="leftRightArrow">
            <a:avLst>
              <a:gd name="adj1" fmla="val 42796"/>
              <a:gd name="adj2" fmla="val 48558"/>
            </a:avLst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3355920" y="1816200"/>
            <a:ext cx="2514600" cy="288720"/>
          </a:xfrm>
          <a:prstGeom prst="leftRightArrow">
            <a:avLst>
              <a:gd name="adj1" fmla="val 50000"/>
              <a:gd name="adj2" fmla="val 173383"/>
            </a:avLst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2" name=""/>
          <p:cNvSpPr/>
          <p:nvPr/>
        </p:nvSpPr>
        <p:spPr>
          <a:xfrm>
            <a:off x="4746600" y="4665600"/>
            <a:ext cx="401760" cy="1602000"/>
          </a:xfrm>
          <a:prstGeom prst="upDownArrow">
            <a:avLst>
              <a:gd name="adj1" fmla="val 50000"/>
              <a:gd name="adj2" fmla="val 79380"/>
            </a:avLst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"/>
          <p:cNvSpPr/>
          <p:nvPr/>
        </p:nvSpPr>
        <p:spPr>
          <a:xfrm>
            <a:off x="2030400" y="766800"/>
            <a:ext cx="6640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785880"/>
            <a:ext cx="6731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Mappa concettuale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6280" y="885960"/>
            <a:ext cx="8931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Situazione internazionale 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6" name=""/>
          <p:cNvSpPr/>
          <p:nvPr/>
        </p:nvSpPr>
        <p:spPr>
          <a:xfrm>
            <a:off x="638280" y="2459160"/>
            <a:ext cx="89503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lima di esaltazione nazionalistic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sentimento  nei confronti dei trattati di pace della prima guerra mondial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solamento delle potenze sconfitt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nstabilità politica  in Germania e Italia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8000" y="776160"/>
            <a:ext cx="10005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Ascesa politica del fascismo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8" name=""/>
          <p:cNvSpPr/>
          <p:nvPr/>
        </p:nvSpPr>
        <p:spPr>
          <a:xfrm>
            <a:off x="3056040" y="2608200"/>
            <a:ext cx="1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9" name=""/>
          <p:cNvSpPr/>
          <p:nvPr/>
        </p:nvSpPr>
        <p:spPr>
          <a:xfrm>
            <a:off x="676440" y="2409840"/>
            <a:ext cx="890244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lima di esaltazione nazionalistic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Organizzazione paramilitar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Marcia su Roma  28-29 ottobre 1922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mpia fiducia dalle camere (306 favorevoli, 116 contrari, 7 astenuti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mbiguità del discorso sul 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  <a:ea typeface="Bitstream Vera Serif"/>
              </a:rPr>
              <a:t>«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bivacc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  <a:ea typeface="Bitstream Vera Serif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2680" y="757080"/>
            <a:ext cx="10005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Ascesa politica del nazismo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1" name=""/>
          <p:cNvSpPr/>
          <p:nvPr/>
        </p:nvSpPr>
        <p:spPr>
          <a:xfrm>
            <a:off x="657360" y="2459160"/>
            <a:ext cx="929304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Debolezza della repubblica di Weimar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ndividuazione dei “nemici” della Germani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Ascesa politica legale, non più violenta (putsch della birreria – 1923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ancelliere nel 1932 e F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  <a:ea typeface="Bitstream Vera Serif"/>
              </a:rPr>
              <a:t>üh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er (guida) nel 1934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9120" y="627120"/>
            <a:ext cx="9618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Nietzsche (1844-1900)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3" name=""/>
          <p:cNvSpPr/>
          <p:nvPr/>
        </p:nvSpPr>
        <p:spPr>
          <a:xfrm>
            <a:off x="627120" y="2090880"/>
            <a:ext cx="891216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ritica ai filosofi precendenti a partire da Socrat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concetto di oltreuomo, rifiuto della morale tradizionale, avvento dell'oltreuomo, al di là del bene e del male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Esaltazione della vita e della volontà di potenz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49120" y="628560"/>
            <a:ext cx="9618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Nietzsche e la moral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5" name=""/>
          <p:cNvSpPr/>
          <p:nvPr/>
        </p:nvSpPr>
        <p:spPr>
          <a:xfrm>
            <a:off x="606600" y="1990800"/>
            <a:ext cx="901044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Morale dei signori e degli schiavi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 deboli, i malriusciti, i sacerdoti provano risentimento verso i guerrier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 deboli, i malriusciti, i sacerdoti vogliono quindi far valere un'altra tavola di valori, antitetica a quella dei guerrier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Identificazione degli Ebrei come popolo sacerdotale per eccellenza</a:t>
            </a: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49120" y="627120"/>
            <a:ext cx="961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 Mono"/>
              </a:rPr>
              <a:t>Ispirazione della politica nazista - Nietzsche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7" name=""/>
          <p:cNvSpPr/>
          <p:nvPr/>
        </p:nvSpPr>
        <p:spPr>
          <a:xfrm>
            <a:off x="855720" y="2698920"/>
            <a:ext cx="85136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8" name=""/>
          <p:cNvSpPr/>
          <p:nvPr/>
        </p:nvSpPr>
        <p:spPr>
          <a:xfrm>
            <a:off x="538200" y="2538360"/>
            <a:ext cx="89917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Strumentalizzazione del suo pensiero da parte del  marito della sorella (Gerarca nazista)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Filosofia ispiratrice dell'odio verso gli ebrei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 Mono"/>
              </a:rPr>
              <a:t>Ripresa del concetto di superuomo che viene travisato nella concretizazione della razza ariana 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